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58B-BD40-4605-937A-BAA8A117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649-DDFF-4DC9-B0C8-89200072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055-CDD1-4021-B412-DFEA5339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F0D-F610-4A63-89D4-5106AB66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99B-A2B4-4DF8-BEA9-11673ED5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14F-76B5-4AFD-B732-5CDD034B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6A7-DF15-4647-80AB-C32037C9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9C1-CD2E-4330-918B-AB3DB3E3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A0D-9148-4E4A-81F6-9B1A331F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734-0F39-43C6-9C9D-3AB20313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3EDA-329B-460A-B25F-8D944C45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9C5-967C-479F-BB9E-4014057E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43D4-3E44-401E-A463-EA9B70AC9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lipika_chopra@yahoo.co.i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hisbul pic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4" name="Rectangle 11"/>
          <p:cNvSpPr/>
          <p:nvPr/>
        </p:nvSpPr>
        <p:spPr>
          <a:xfrm>
            <a:off x="5867280" y="723816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PIKA CHO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2666880" y="609480"/>
            <a:ext cx="3124440" cy="990720"/>
          </a:xfrm>
          <a:prstGeom prst="rect">
            <a:avLst/>
          </a:prstGeom>
          <a:gradFill rotWithShape="0">
            <a:gsLst>
              <a:gs pos="0">
                <a:srgbClr val="703d16"/>
              </a:gs>
              <a:gs pos="100000">
                <a:srgbClr val="341c0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LIPIKA CHO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304920" y="1981080"/>
            <a:ext cx="8229600" cy="4572000"/>
          </a:xfrm>
          <a:prstGeom prst="rect">
            <a:avLst/>
          </a:prstGeom>
          <a:gradFill rotWithShape="0">
            <a:gsLst>
              <a:gs pos="0">
                <a:srgbClr val="341c0a"/>
              </a:gs>
              <a:gs pos="100000">
                <a:srgbClr val="703d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-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-ST.MARKS GIRLS SR.SECONDAR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S-INTERNET SURFING AND LISTENING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SUBJECTS-HISTORY AND M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ID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pika_chopra@yahoo.co.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D TO BE A PART OF THIS PROJECT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clip_image003.jpg"/>
          <p:cNvPicPr/>
          <p:nvPr/>
        </p:nvPicPr>
        <p:blipFill>
          <a:blip r:embed="rId3"/>
          <a:stretch/>
        </p:blipFill>
        <p:spPr>
          <a:xfrm>
            <a:off x="533520" y="2057400"/>
            <a:ext cx="141912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New -AECLogo_Medium"/>
          <p:cNvPicPr/>
          <p:nvPr/>
        </p:nvPicPr>
        <p:blipFill>
          <a:blip r:embed="rId4"/>
          <a:stretch/>
        </p:blipFill>
        <p:spPr>
          <a:xfrm>
            <a:off x="7010280" y="2057400"/>
            <a:ext cx="12574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0:40:28Z</dcterms:created>
  <dc:creator>X-ray</dc:creator>
  <dc:description/>
  <dc:language>en-US</dc:language>
  <cp:lastModifiedBy>Sumi</cp:lastModifiedBy>
  <dcterms:modified xsi:type="dcterms:W3CDTF">2010-01-29T13:01:23Z</dcterms:modified>
  <cp:revision>2</cp:revision>
  <dc:subject/>
  <dc:title>Slide 1</dc:title>
</cp:coreProperties>
</file>